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6E2-D709-4A30-9A5D-BAD58C14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45F-6AB6-40BE-9C8D-D7EBCC7E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18F-9EAE-4FFB-9BA0-7A21E29D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3EB-30BF-4594-A7F8-1ED62611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FC93-7DA5-4DD1-8A16-C8A587E2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3D47-609E-4991-9AD3-023F91BD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7E7B-ED43-479C-AA4D-4AECB84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2C6B-100B-4A82-89E4-9EEF957F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A473-5A26-42FE-9AD5-EB20C87B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7942-17EF-48B0-B078-8752C806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B1DA-41A5-4AE8-B691-09A87BB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9AE-F619-4B7E-8F4B-4AAF7C8A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7946-41DF-4C25-ACE4-2DFBFAC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94CB-9F15-4D6A-8A97-6E76A62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ACA2-7AB7-4DBD-B1BF-605A42E0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C19E-99EA-4CC6-8C8B-BC91A66C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C9F4-2B54-4F8D-8C64-359D1D63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8B7-8FF5-4C41-AA1A-B916EF41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979-F970-4878-9EFD-C3C2C9BA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57D-DDD5-4E77-9806-79436E11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D25-12B4-4F05-A4B6-EAF23FEF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878-7534-4CCC-946D-768FF7CA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EE5-03BF-46F3-AF46-4752E33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421-AC96-4311-9B8B-2FBB5428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F587-1E72-43C1-8248-000D2AF85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49C8-CBD8-41FA-82DA-A67D8A9B2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000000"/>
                </a:solidFill>
                <a:latin typeface="Arial"/>
              </a:rPr>
              <a:t>Present Tense Stem-Changing Verbs</a:t>
            </a:r>
            <a:endParaRPr b="0" lang="en-US" sz="5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ge 10 – Lección Preliminar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vancemos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EDIR (e &gt; i) – to ask for, to order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di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dí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erbs (e &gt; i)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419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v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p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í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í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gu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tir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85840" y="1371600"/>
            <a:ext cx="4956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ser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rep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laug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sm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follow, contin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d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REÍR (e &gt; i) – to laugh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ONREÍR (e &gt; i) – to smil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e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e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5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Remember that in Spanish there are three groups of stem-changing verb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The stem change occurs in all forms except the nosotros(as) and vosotros(as) form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5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Let´s look at some verbs that have a stem change of </a:t>
            </a:r>
            <a:r>
              <a:rPr b="0" i="1" lang="es-ES" sz="3800" spc="-1" strike="noStrike">
                <a:solidFill>
                  <a:srgbClr val="ffffff"/>
                </a:solidFill>
                <a:latin typeface="Arial"/>
              </a:rPr>
              <a:t>e &gt; i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4419720"/>
            <a:ext cx="5257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PERDER (e &gt; ie) – to los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d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d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d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erbs (e &gt; ie)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419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mp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z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qu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ref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s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iv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ti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esp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t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ti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t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r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z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nt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19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beg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w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pref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think, pl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have fu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wake 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fe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l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cl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beg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underst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5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Let´s look at some verbs that have a stem change of </a:t>
            </a:r>
            <a:r>
              <a:rPr b="0" i="1" lang="es-ES" sz="3800" spc="-1" strike="noStrike">
                <a:solidFill>
                  <a:srgbClr val="ffffff"/>
                </a:solidFill>
                <a:latin typeface="Arial"/>
              </a:rPr>
              <a:t>o &gt; u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19720"/>
            <a:ext cx="5257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ODER (o &gt; ue) – to be able to, ca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d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d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erbs (o &gt; ue)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419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gar (u &gt; u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t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n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tr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e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d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m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ev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t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m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z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19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p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count, tell a st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find, me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reme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f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slee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retu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return somet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go to b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eat lun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5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Let´s look at some verbs that have a stem change of </a:t>
            </a:r>
            <a:r>
              <a:rPr b="0" i="1" lang="es-ES" sz="3800" spc="-1" strike="noStrike">
                <a:solidFill>
                  <a:srgbClr val="ffffff"/>
                </a:solidFill>
                <a:latin typeface="Arial"/>
              </a:rPr>
              <a:t>e &gt; i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4419720"/>
            <a:ext cx="5257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0:02:47Z</dcterms:created>
  <dc:creator>Suzanne M. Shirley</dc:creator>
  <dc:description/>
  <dc:language>en-US</dc:language>
  <cp:lastModifiedBy>Local User</cp:lastModifiedBy>
  <dcterms:modified xsi:type="dcterms:W3CDTF">2009-08-17T20:34:29Z</dcterms:modified>
  <cp:revision>10</cp:revision>
  <dc:subject/>
  <dc:title>Presente de los Verbos con Cambios de Raíz</dc:title>
</cp:coreProperties>
</file>